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1284-A3C2-43B9-AF94-257BDDF48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68D7-4CED-41B8-8DCA-9036AA21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A5F9-982A-401D-983D-8E03A09D8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7D34-8A9E-4110-9C74-C94417F71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B8CC-B62A-4EAA-96B1-F7612F0F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5133-FF62-4A74-B95D-89C58E8E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6A70-3BFA-4C37-8826-7D6DEF13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5E23-04FF-4C82-B91E-8C9408E8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B294-5510-468F-B33E-AFFE0E23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58D2-96CC-4B7A-85F6-22F5DCA6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2264-8EDD-4B26-A145-BDCB0E55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A632-873A-4BF4-8408-F43D287B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6CB3-E3B0-4A91-8EEF-5897BC357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africamap"/>
          <p:cNvPicPr/>
          <p:nvPr/>
        </p:nvPicPr>
        <p:blipFill>
          <a:blip r:embed="rId1"/>
          <a:stretch/>
        </p:blipFill>
        <p:spPr>
          <a:xfrm>
            <a:off x="6134040" y="333360"/>
            <a:ext cx="3009960" cy="2300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87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ustainable Intensification of Cereal-based Farming Systems in the Sudano-Sahelian Zone of West Africa:</a:t>
            </a:r>
            <a:br>
              <a:rPr sz="40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roducing the Draft Concept Note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I. Hoeschle-Zele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5932440"/>
            <a:ext cx="914400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tainable Intensification of Cereal-based Farming Systems in the Sudano-Sahelian Zone of West Africa: Project Design Workshop, Tamale, Ghana, 9-12 Januar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llaborative effort by colleagues from ICRISAT, ILRI, CIAT, ICRAF, AfricaRice, IMWI, IFPRI, AVRCD, and IITA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mary partners, others will be part of the further project design process, project implementation and dissemination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 outputs for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ject leader: IITA</a:t>
            </a:r>
            <a:br>
              <a:rPr sz="32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4"/>
          <p:cNvSpPr/>
          <p:nvPr/>
        </p:nvSpPr>
        <p:spPr>
          <a:xfrm flipV="1">
            <a:off x="4067280" y="98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verall objective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rove livelihoods through sustainably increased productivity of cereal-legume-tree-horticulture-livestock integrated farming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project addressing 3 cereal-based farming systems (compon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­ ma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orghum/mil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ric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ographic focu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92088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rther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hana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Northern, Upper East, Upper West Regions;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ze, rice, sorghum, pearl mil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outher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Mali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ikasso Region (similar agro-eco zone, extends into drier areas north); sorghum, pearl millet, ma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verty level, food insecurity risk, gender inequity, potential for productivity improvement with manifold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earch sites: tbd at thi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&amp;E: Impact evaluation, scaling up and out assessments,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d by IFPRI, separate f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ject duration: 5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ding: US$ 3.2m/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8T13:13:07Z</dcterms:created>
  <dc:creator>zeledon</dc:creator>
  <dc:description/>
  <dc:language>en-US</dc:language>
  <cp:lastModifiedBy>PBallantyne</cp:lastModifiedBy>
  <dcterms:modified xsi:type="dcterms:W3CDTF">2012-01-10T07:22:25Z</dcterms:modified>
  <cp:revision>7</cp:revision>
  <dc:subject/>
  <dc:title>Sustainable Intensification of Cereal-based Farming Systems in the Sudano-Sahelian Zone</dc:title>
</cp:coreProperties>
</file>